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A13-5C52-4CAE-85B1-F79F87C8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2553-1FEB-4FA1-AE50-580CA514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88BE-3AAD-4189-8A9D-762D0F62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3DE0-B63A-44A8-8A5A-65835660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A814-CA72-4933-9A94-A6616D63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97DA-75A1-41C4-981D-37B6552A7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F825-80FB-4DAD-AD83-212B253CD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3A93-A566-4B27-8D67-55754093E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76D1-A373-4DE3-AFA1-4E1FC43F7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B9D6-CC35-4E79-A28C-D160440D1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8E4B-0064-4B26-A66A-8A8D003EB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43B4-134B-4F92-8498-195F8DEB9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349B-8B44-431F-9DFD-DA749A1DB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8CA4-5ECE-4FEE-8E22-2EEB26B50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3D5C-9AE9-4BAF-8CCF-8A25E8538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7A83-C043-4093-8499-DA7AF519C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8ADB-F863-413C-8CE2-D0D7F955C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9C5096EF-9D74-47DF-B0EA-200E99CF7D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A06D0615-B44D-4FF4-AE91-12B709F2C4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t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bo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dr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lik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v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ir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08_01_p132a"/>
          <p:cNvPicPr/>
          <p:nvPr/>
        </p:nvPicPr>
        <p:blipFill>
          <a:blip r:embed="rId1"/>
          <a:stretch/>
        </p:blipFill>
        <p:spPr>
          <a:xfrm>
            <a:off x="1523880" y="3352680"/>
            <a:ext cx="5981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EB4B870D-CB6A-4897-8A99-FB5B60DC7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8_01_p132b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2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08_01_p132c"/>
          <p:cNvPicPr/>
          <p:nvPr/>
        </p:nvPicPr>
        <p:blipFill>
          <a:blip r:embed="rId2"/>
          <a:stretch/>
        </p:blipFill>
        <p:spPr>
          <a:xfrm>
            <a:off x="1523880" y="4191120"/>
            <a:ext cx="6307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8443E874-301E-4425-A844-76200C7615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s of the verb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p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lea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m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llow the same pattern as that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8_01_p132e"/>
          <p:cNvPicPr/>
          <p:nvPr/>
        </p:nvPicPr>
        <p:blipFill>
          <a:blip r:embed="rId1"/>
          <a:stretch/>
        </p:blipFill>
        <p:spPr>
          <a:xfrm>
            <a:off x="1219320" y="3414600"/>
            <a:ext cx="6694200" cy="197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08_01_p132d"/>
          <p:cNvPicPr/>
          <p:nvPr/>
        </p:nvPicPr>
        <p:blipFill>
          <a:blip r:embed="rId2"/>
          <a:stretch/>
        </p:blipFill>
        <p:spPr>
          <a:xfrm>
            <a:off x="1371600" y="2743200"/>
            <a:ext cx="6477120" cy="76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08_01_p132f"/>
          <p:cNvPicPr/>
          <p:nvPr/>
        </p:nvPicPr>
        <p:blipFill>
          <a:blip r:embed="rId3"/>
          <a:stretch/>
        </p:blipFill>
        <p:spPr>
          <a:xfrm>
            <a:off x="1447920" y="5319720"/>
            <a:ext cx="68580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B608617B-62E2-493F-B664-1FEFEA9CC0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ssayez"/>
          <p:cNvPicPr/>
          <p:nvPr/>
        </p:nvPicPr>
        <p:blipFill>
          <a:blip r:embed="rId1"/>
          <a:stretch/>
        </p:blipFill>
        <p:spPr>
          <a:xfrm>
            <a:off x="568440" y="1371600"/>
            <a:ext cx="804852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34920" y="2743200"/>
          <a:ext cx="7620120" cy="335268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 soeur _______ (prendre) une salade au déjeuner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 parents ______  (prendre) un taxi ce soir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 (boire) une eau minérale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vous êtes fatigués, vous _______ (boire) un café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ais _______ (apprendre) à parler japonai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 (apprendre) très vite (fast) les leçon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4"/>
          <p:cNvSpPr/>
          <p:nvPr/>
        </p:nvSpPr>
        <p:spPr>
          <a:xfrm>
            <a:off x="914400" y="1600200"/>
            <a:ext cx="771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tilisez la forme correcte du verb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e parenthès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4"/>
          <p:cNvSpPr/>
          <p:nvPr/>
        </p:nvSpPr>
        <p:spPr>
          <a:xfrm>
            <a:off x="2763720" y="2743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483c8"/>
                </a:solidFill>
                <a:latin typeface="Comic Sans MS"/>
              </a:rPr>
              <a:t>pr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19T02:30:19Z</dcterms:modified>
  <cp:revision>36</cp:revision>
  <dc:subject>Structures 8.1</dc:subject>
  <dc:title>PROMENADES</dc:title>
</cp:coreProperties>
</file>